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748B-88DB-44AC-9E95-1D45B37869D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E60D-9968-483F-80AF-E740BAF3D41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 方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301920" y="3500280"/>
            <a:ext cx="5086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087720" y="2637000"/>
            <a:ext cx="58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列方程解决问题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3" name="矩形 1"/>
          <p:cNvSpPr/>
          <p:nvPr/>
        </p:nvSpPr>
        <p:spPr>
          <a:xfrm>
            <a:off x="1187280" y="2644920"/>
            <a:ext cx="719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平和乐乐同时从相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0m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两地相对走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平每分钟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m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乐乐每分钟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4m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过几分钟两人相遇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5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1"/>
          <p:cNvSpPr/>
          <p:nvPr/>
        </p:nvSpPr>
        <p:spPr>
          <a:xfrm>
            <a:off x="1116000" y="2649600"/>
            <a:ext cx="6985080" cy="9471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相遇问题的基本特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个物体同时由两地出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向而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途中相遇。判断本题是相遇问题，又根据总路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速度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遇时间可以列出数量关系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0"/>
          <p:cNvSpPr/>
          <p:nvPr/>
        </p:nvSpPr>
        <p:spPr>
          <a:xfrm>
            <a:off x="1574640" y="2492280"/>
            <a:ext cx="58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经过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钟两人相遇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9"/>
          <p:cNvSpPr/>
          <p:nvPr/>
        </p:nvSpPr>
        <p:spPr>
          <a:xfrm>
            <a:off x="2465280" y="3193920"/>
            <a:ext cx="36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+5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8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3945240" y="382428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8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2722680" y="4330800"/>
            <a:ext cx="48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100=800÷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4693680" y="4976640"/>
            <a:ext cx="9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2473200" y="5459400"/>
            <a:ext cx="588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经过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钟两人相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1378080" y="26557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把家里的小鸡和兔子放在一个笼子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笼子里一共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脚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头。算一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鸡和兔子各有几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8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1"/>
          <p:cNvSpPr/>
          <p:nvPr/>
        </p:nvSpPr>
        <p:spPr>
          <a:xfrm>
            <a:off x="1203480" y="2658960"/>
            <a:ext cx="6984720" cy="186120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解决的问题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有两个未知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设其中标准量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另一个未知量用带有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式子表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根据题中的数量关系列出方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题中可以设小鸡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兔子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1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可以设兔子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小鸡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1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739880" y="2657520"/>
            <a:ext cx="5621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兔子有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1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2(11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=10</a:t>
            </a:r>
            <a:r>
              <a:rPr b="0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鸡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兔子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29400" y="811080"/>
            <a:ext cx="2114640" cy="20336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74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"/>
          <p:cNvSpPr/>
          <p:nvPr/>
        </p:nvSpPr>
        <p:spPr>
          <a:xfrm rot="18297600">
            <a:off x="6242040" y="414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1727280" y="182880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方程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4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2"/>
          <p:cNvSpPr/>
          <p:nvPr/>
        </p:nvSpPr>
        <p:spPr>
          <a:xfrm>
            <a:off x="2286000" y="28288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4x+x=40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4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4=40÷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0"/>
          <p:cNvSpPr/>
          <p:nvPr/>
        </p:nvSpPr>
        <p:spPr>
          <a:xfrm>
            <a:off x="755640" y="18097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186" name="矩形 19"/>
          <p:cNvSpPr/>
          <p:nvPr/>
        </p:nvSpPr>
        <p:spPr>
          <a:xfrm>
            <a:off x="1012680" y="2852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把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前的系数看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如果算式中只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算式的原形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×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91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5"/>
          <p:cNvSpPr/>
          <p:nvPr/>
        </p:nvSpPr>
        <p:spPr>
          <a:xfrm rot="18297600">
            <a:off x="5848200" y="50036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20"/>
          <p:cNvSpPr/>
          <p:nvPr/>
        </p:nvSpPr>
        <p:spPr>
          <a:xfrm rot="18297600">
            <a:off x="5410080" y="27795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对象 21" descr=""/>
          <p:cNvPicPr/>
          <p:nvPr/>
        </p:nvPicPr>
        <p:blipFill>
          <a:blip r:embed="rId3"/>
          <a:stretch/>
        </p:blipFill>
        <p:spPr>
          <a:xfrm>
            <a:off x="140328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96" name="矩形 14"/>
          <p:cNvSpPr/>
          <p:nvPr/>
        </p:nvSpPr>
        <p:spPr>
          <a:xfrm>
            <a:off x="1978200" y="1635120"/>
            <a:ext cx="36414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40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4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4=40÷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16"/>
          <p:cNvSpPr/>
          <p:nvPr/>
        </p:nvSpPr>
        <p:spPr>
          <a:xfrm>
            <a:off x="1539720" y="3921120"/>
            <a:ext cx="45720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40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+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4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5=40÷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0"/>
          <p:cNvSpPr/>
          <p:nvPr/>
        </p:nvSpPr>
        <p:spPr>
          <a:xfrm>
            <a:off x="1279440" y="3471840"/>
            <a:ext cx="270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解：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5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5144400" y="3451320"/>
            <a:ext cx="306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解：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0.8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112760" y="2660760"/>
            <a:ext cx="696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      3.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468440" y="1822320"/>
            <a:ext cx="24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方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同侧圆角矩形 9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839880" y="299880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两积之和或差的数量关系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列方程解含“和倍”“差倍”数量关系的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808200" y="1773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会列方程解答形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x±ab=c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x±bx=c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方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860400" y="4753080"/>
            <a:ext cx="64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解稍复杂的方程的技巧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9"/>
          <p:cNvGrpSpPr/>
          <p:nvPr/>
        </p:nvGrpSpPr>
        <p:grpSpPr>
          <a:xfrm>
            <a:off x="623880" y="1700280"/>
            <a:ext cx="7907400" cy="3104640"/>
            <a:chOff x="623880" y="1700280"/>
            <a:chExt cx="7907400" cy="3104640"/>
          </a:xfrm>
        </p:grpSpPr>
        <p:sp>
          <p:nvSpPr>
            <p:cNvPr id="206" name="Text Box 10"/>
            <p:cNvSpPr/>
            <p:nvPr/>
          </p:nvSpPr>
          <p:spPr>
            <a:xfrm>
              <a:off x="4059000" y="1700280"/>
              <a:ext cx="52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在括号里填上含有字母的式子。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23880" y="2736720"/>
              <a:ext cx="7907400" cy="20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黄花有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x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朵，红花的朵数是黄花的</a:t>
              </a:r>
              <a:r>
                <a:rPr b="0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倍。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红花有（     ）朵，黄花和红花一共有（     ）朵，红花比黄花多（     ）朵。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Text Box 15"/>
          <p:cNvSpPr/>
          <p:nvPr/>
        </p:nvSpPr>
        <p:spPr>
          <a:xfrm>
            <a:off x="2085120" y="2739960"/>
            <a:ext cx="3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8139960" y="2816280"/>
            <a:ext cx="3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同侧圆角矩形 9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2777760" y="4106880"/>
            <a:ext cx="8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x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1451880" y="475128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4x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593760" y="484020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x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" descr="xiaohong"/>
          <p:cNvPicPr/>
          <p:nvPr/>
        </p:nvPicPr>
        <p:blipFill>
          <a:blip r:embed="rId1"/>
          <a:stretch/>
        </p:blipFill>
        <p:spPr>
          <a:xfrm>
            <a:off x="2468520" y="1413000"/>
            <a:ext cx="5462640" cy="21668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5"/>
          <p:cNvSpPr/>
          <p:nvPr/>
        </p:nvSpPr>
        <p:spPr>
          <a:xfrm>
            <a:off x="2771640" y="746280"/>
            <a:ext cx="44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爸爸和小红今年各多少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同侧圆角矩形 7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8080" y="3610080"/>
            <a:ext cx="698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小红今年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，爸爸今年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－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4×10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小红今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，爸爸今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7"/>
          <p:cNvSpPr/>
          <p:nvPr/>
        </p:nvSpPr>
        <p:spPr>
          <a:xfrm>
            <a:off x="755640" y="1557360"/>
            <a:ext cx="720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学们参观“远离毒品”展览。四、五年级一共去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6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五年级去的 人数是四年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。两个年级各去了多少人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同侧圆角矩形 5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174760" y="3213000"/>
            <a:ext cx="4919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四年级去了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年级去了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1.2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1.2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26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2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26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 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1.2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i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1.2×120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14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四年级去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五年级去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5"/>
          <p:cNvSpPr/>
          <p:nvPr/>
        </p:nvSpPr>
        <p:spPr>
          <a:xfrm>
            <a:off x="611280" y="170028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自然保护区里有天鹅和丹顶鹤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6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天鹅的只数是丹顶鹤的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。天鹅和丹顶鹤各有多少只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同侧圆角矩形 5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2104200" y="3429000"/>
            <a:ext cx="4826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丹顶鹤有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，天鹅有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2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2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＋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9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.2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9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  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  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2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2×300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6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丹顶鹤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，天鹅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6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32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AutoShape 27"/>
          <p:cNvSpPr/>
          <p:nvPr/>
        </p:nvSpPr>
        <p:spPr>
          <a:xfrm>
            <a:off x="6053040" y="1281240"/>
            <a:ext cx="2627280" cy="1617480"/>
          </a:xfrm>
          <a:prstGeom prst="wedgeRoundRectCallout">
            <a:avLst>
              <a:gd name="adj1" fmla="val -73652"/>
              <a:gd name="adj2" fmla="val -2044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解方程时</a:t>
            </a:r>
            <a:r>
              <a:rPr b="0" lang="en-US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要先把小括号内的式子看作一个整体</a:t>
            </a:r>
            <a:r>
              <a:rPr b="0" lang="en-US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再求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Group 23"/>
          <p:cNvGrpSpPr/>
          <p:nvPr/>
        </p:nvGrpSpPr>
        <p:grpSpPr>
          <a:xfrm>
            <a:off x="3276720" y="1281240"/>
            <a:ext cx="2447280" cy="1871640"/>
            <a:chOff x="3276720" y="1281240"/>
            <a:chExt cx="2447280" cy="1871640"/>
          </a:xfrm>
        </p:grpSpPr>
        <p:pic>
          <p:nvPicPr>
            <p:cNvPr id="236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28124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41012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矩形 21"/>
          <p:cNvSpPr/>
          <p:nvPr/>
        </p:nvSpPr>
        <p:spPr>
          <a:xfrm>
            <a:off x="520560" y="3068640"/>
            <a:ext cx="8210520" cy="474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用方程解决含有两个未知量的实际问题时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设其中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倍量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标准量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为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另一个未知量用含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式子表示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5"/>
          <p:cNvSpPr/>
          <p:nvPr/>
        </p:nvSpPr>
        <p:spPr>
          <a:xfrm>
            <a:off x="582480" y="3963960"/>
            <a:ext cx="8280360" cy="1191240"/>
          </a:xfrm>
          <a:prstGeom prst="rect">
            <a:avLst/>
          </a:prstGeom>
          <a:solidFill>
            <a:srgbClr val="31859c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形如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ax±bx=c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方程时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先运用乘法分配律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将原方程化为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a±b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x=c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形式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算出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a±b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结果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进一步将方程化成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mx=c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形式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应用等式的性质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在方程两边同时除以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m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也就是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mx÷m=c÷m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最后求出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x=c÷m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也就是方程的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3"/>
          <p:cNvSpPr/>
          <p:nvPr/>
        </p:nvSpPr>
        <p:spPr>
          <a:xfrm>
            <a:off x="617400" y="5533920"/>
            <a:ext cx="8210520" cy="8254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3.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相遇问题的基本特征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两个物体同时由两地出发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相向而行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在途中相遇。基本关系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相遇时间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=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总路程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÷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速度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116000" y="1414440"/>
            <a:ext cx="727236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甲、乙两列火车分别从北京和上海同时开出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相向而行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经过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小时相遇。甲车平均每小时行多少千米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2197080" y="5805360"/>
            <a:ext cx="6840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954000" y="517680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170000" y="539280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1386000" y="560880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同侧圆角矩形 11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J540.eps" descr="id:2147512954;FounderCES"/>
          <p:cNvPicPr/>
          <p:nvPr/>
        </p:nvPicPr>
        <p:blipFill>
          <a:blip r:embed="rId1"/>
          <a:stretch/>
        </p:blipFill>
        <p:spPr>
          <a:xfrm>
            <a:off x="1449360" y="2930400"/>
            <a:ext cx="5715000" cy="152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男孩1"/>
          <p:cNvPicPr/>
          <p:nvPr/>
        </p:nvPicPr>
        <p:blipFill>
          <a:blip r:embed="rId2"/>
          <a:stretch/>
        </p:blipFill>
        <p:spPr>
          <a:xfrm>
            <a:off x="6588000" y="461484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3564000" y="4851360"/>
            <a:ext cx="2851200" cy="954000"/>
          </a:xfrm>
          <a:prstGeom prst="wedgeRoundRectCallout">
            <a:avLst>
              <a:gd name="adj1" fmla="val 67462"/>
              <a:gd name="adj2" fmla="val -793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找等量关系，再列方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"/>
          <p:cNvSpPr/>
          <p:nvPr/>
        </p:nvSpPr>
        <p:spPr>
          <a:xfrm>
            <a:off x="2809800" y="950760"/>
            <a:ext cx="37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火车图片互换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7"/>
          <p:cNvSpPr/>
          <p:nvPr/>
        </p:nvSpPr>
        <p:spPr>
          <a:xfrm>
            <a:off x="1300320" y="1604520"/>
            <a:ext cx="6872040" cy="459720"/>
          </a:xfrm>
          <a:prstGeom prst="rect">
            <a:avLst/>
          </a:prstGeom>
          <a:solidFill>
            <a:srgbClr val="4f81bd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甲车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时行的路程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乙车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时行的路程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路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641600" y="2168640"/>
            <a:ext cx="595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甲车平均每小时行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87×7=146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2"/>
          <p:cNvSpPr/>
          <p:nvPr/>
        </p:nvSpPr>
        <p:spPr>
          <a:xfrm>
            <a:off x="2822400" y="3119400"/>
            <a:ext cx="3299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6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463-6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8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854÷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72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同侧圆角矩形 21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同侧圆角矩形 22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908000" y="5342760"/>
            <a:ext cx="59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车平均每小时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17"/>
          <p:cNvSpPr/>
          <p:nvPr/>
        </p:nvSpPr>
        <p:spPr>
          <a:xfrm>
            <a:off x="847800" y="58579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检验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7</a:t>
            </a:r>
            <a:r>
              <a:rPr b="0" i="1" lang="en-US" sz="28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+87×7=7×122+609=1463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答正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79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同侧圆角矩形 16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同侧圆角矩形 17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782720" y="2327400"/>
            <a:ext cx="5334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甲车平均每小时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463-87×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8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854÷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300320" y="1604520"/>
            <a:ext cx="6872040" cy="459720"/>
          </a:xfrm>
          <a:prstGeom prst="rect">
            <a:avLst/>
          </a:prstGeom>
          <a:solidFill>
            <a:srgbClr val="4f81bd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甲车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时行的路程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路程</a:t>
            </a:r>
            <a:r>
              <a:rPr b="0" i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乙车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时行的路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1782720" y="4565520"/>
            <a:ext cx="59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车平均每小时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805040" y="5230440"/>
            <a:ext cx="4781520" cy="459720"/>
          </a:xfrm>
          <a:prstGeom prst="rect">
            <a:avLst/>
          </a:prstGeom>
          <a:solidFill>
            <a:srgbClr val="4f81bd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甲车速度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乙车速度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×7=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路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776240" y="5878080"/>
            <a:ext cx="4783320" cy="459720"/>
          </a:xfrm>
          <a:prstGeom prst="rect">
            <a:avLst/>
          </a:prstGeom>
          <a:solidFill>
            <a:srgbClr val="4f81bd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甲车速度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乙车速度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路程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"/>
          <p:cNvSpPr/>
          <p:nvPr/>
        </p:nvSpPr>
        <p:spPr>
          <a:xfrm>
            <a:off x="1630440" y="15764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奶奶养花鸡和黑鸡各多少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1025640" y="488808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1241280" y="510372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91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同侧圆角矩形 15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同侧圆角矩形 16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854360" y="2276640"/>
            <a:ext cx="5524200" cy="318744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44"/>
          <p:cNvGrpSpPr/>
          <p:nvPr/>
        </p:nvGrpSpPr>
        <p:grpSpPr>
          <a:xfrm>
            <a:off x="703440" y="5464080"/>
            <a:ext cx="5597280" cy="1800360"/>
            <a:chOff x="703440" y="5464080"/>
            <a:chExt cx="5597280" cy="1800360"/>
          </a:xfrm>
        </p:grpSpPr>
        <p:pic>
          <p:nvPicPr>
            <p:cNvPr id="96" name="Picture 45" descr="女孩1"/>
            <p:cNvPicPr/>
            <p:nvPr/>
          </p:nvPicPr>
          <p:blipFill>
            <a:blip r:embed="rId2"/>
            <a:stretch/>
          </p:blipFill>
          <p:spPr>
            <a:xfrm>
              <a:off x="703440" y="5464080"/>
              <a:ext cx="11509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AutoShape 27"/>
            <p:cNvSpPr/>
            <p:nvPr/>
          </p:nvSpPr>
          <p:spPr>
            <a:xfrm>
              <a:off x="1890720" y="5594400"/>
              <a:ext cx="4410000" cy="646200"/>
            </a:xfrm>
            <a:prstGeom prst="wedgeRoundRectCallout">
              <a:avLst>
                <a:gd name="adj1" fmla="val -55861"/>
                <a:gd name="adj2" fmla="val -1805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  </a:t>
              </a: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用画线段图分析数量关系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99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同侧圆角矩形 17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同侧圆角矩形 18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725560" y="3246480"/>
            <a:ext cx="47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设黑鸡有</a:t>
            </a:r>
            <a:r>
              <a:rPr b="0" i="1" lang="en-US" sz="32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那么花鸡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0" i="1" lang="en-US" sz="32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+16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2212200" y="3716280"/>
            <a:ext cx="551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i="1" lang="en-US" sz="28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+</a:t>
            </a:r>
            <a:r>
              <a:rPr b="0" i="1" lang="en-US" sz="28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+16=7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i="1" lang="en-US" sz="28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+16=7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i="1" lang="en-US" sz="28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6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花鸡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31+16=47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或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78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1=47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黑鸡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1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花鸡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7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4091040" y="885960"/>
            <a:ext cx="22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黑鸡有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画线段图解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JSS104.EPS" descr="id:2147513227;FounderCES"/>
          <p:cNvPicPr/>
          <p:nvPr/>
        </p:nvPicPr>
        <p:blipFill>
          <a:blip r:embed="rId1"/>
          <a:stretch/>
        </p:blipFill>
        <p:spPr>
          <a:xfrm>
            <a:off x="2498760" y="1590840"/>
            <a:ext cx="43545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942840" y="1498680"/>
            <a:ext cx="7224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汽车销售公司去年第四季度售出小汽车和面包车共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8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辆。这个公司去年第四季度销售小汽车和面包车各多少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1025640" y="488808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1241280" y="510372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1457280" y="531972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1673280" y="553572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12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同侧圆角矩形 14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同侧圆角矩形 15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" descr="C:\Users\Administrator\AppData\Roaming\Tencent\Users\781547643\QQ\WinTemp\RichOle\(E[2}8$57LOWZ@E[AK@@6E7.png"/>
          <p:cNvPicPr/>
          <p:nvPr/>
        </p:nvPicPr>
        <p:blipFill>
          <a:blip r:embed="rId1"/>
          <a:stretch/>
        </p:blipFill>
        <p:spPr>
          <a:xfrm>
            <a:off x="942840" y="2859120"/>
            <a:ext cx="7328160" cy="2255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3" descr="男孩1"/>
          <p:cNvPicPr/>
          <p:nvPr/>
        </p:nvPicPr>
        <p:blipFill>
          <a:blip r:embed="rId2"/>
          <a:stretch/>
        </p:blipFill>
        <p:spPr>
          <a:xfrm>
            <a:off x="6775560" y="497196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27"/>
          <p:cNvSpPr/>
          <p:nvPr/>
        </p:nvSpPr>
        <p:spPr>
          <a:xfrm>
            <a:off x="3995640" y="5149800"/>
            <a:ext cx="2571840" cy="507960"/>
          </a:xfrm>
          <a:prstGeom prst="wedgeRoundRectCallout">
            <a:avLst>
              <a:gd name="adj1" fmla="val 67462"/>
              <a:gd name="adj2" fmla="val -793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先画线段图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119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同侧圆角矩形 10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同侧圆角矩形 11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763640" y="3429000"/>
            <a:ext cx="3956040" cy="87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1320" y="3444840"/>
            <a:ext cx="6091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设销售面包车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　　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+3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6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6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汽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3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=51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8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=51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销售小汽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面包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JSS106.EPS" descr="id:2147513299;FounderCES"/>
          <p:cNvPicPr/>
          <p:nvPr/>
        </p:nvPicPr>
        <p:blipFill>
          <a:blip r:embed="rId1"/>
          <a:stretch/>
        </p:blipFill>
        <p:spPr>
          <a:xfrm>
            <a:off x="2487600" y="1498680"/>
            <a:ext cx="4390920" cy="163656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1"/>
          <p:cNvGrpSpPr/>
          <p:nvPr/>
        </p:nvGrpSpPr>
        <p:grpSpPr>
          <a:xfrm>
            <a:off x="3780000" y="598320"/>
            <a:ext cx="5308560" cy="1798920"/>
            <a:chOff x="3780000" y="598320"/>
            <a:chExt cx="5308560" cy="1798920"/>
          </a:xfrm>
        </p:grpSpPr>
        <p:pic>
          <p:nvPicPr>
            <p:cNvPr id="126" name="Picture 33" descr="男孩1"/>
            <p:cNvPicPr/>
            <p:nvPr/>
          </p:nvPicPr>
          <p:blipFill>
            <a:blip r:embed="rId2"/>
            <a:stretch/>
          </p:blipFill>
          <p:spPr>
            <a:xfrm>
              <a:off x="7472520" y="598320"/>
              <a:ext cx="161604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AutoShape 27"/>
            <p:cNvSpPr/>
            <p:nvPr/>
          </p:nvSpPr>
          <p:spPr>
            <a:xfrm>
              <a:off x="3780000" y="775800"/>
              <a:ext cx="3484080" cy="508320"/>
            </a:xfrm>
            <a:prstGeom prst="wedgeRoundRectCallout">
              <a:avLst>
                <a:gd name="adj1" fmla="val 67462"/>
                <a:gd name="adj2" fmla="val -79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用</a:t>
              </a:r>
              <a:r>
                <a:rPr b="0" i="1" lang="en-US" sz="2400" spc="-1" strike="noStrike">
                  <a:solidFill>
                    <a:srgbClr val="7030a0"/>
                  </a:solidFill>
                  <a:latin typeface="Times New Roman"/>
                  <a:ea typeface="华文新魏"/>
                </a:rPr>
                <a:t>x</a:t>
              </a: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表示面包车的数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1T02:52:17Z</dcterms:created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11:21:17Z</dcterms:modified>
  <cp:revision>330</cp:revision>
  <dc:subject>www.xkb1.com</dc:subject>
  <dc:title>www.xkb1.com</dc:title>
</cp:coreProperties>
</file>